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184-8DE6-4CCC-8296-E6C74F68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F76-C0CF-4BE0-ADA9-0E5A425A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43A855-CCA2-45E8-8845-A624BCE68AD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0B5EBA-B51D-4ADF-BC9F-4B277BD2D26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71D71C-1BD5-4EB3-8975-0EDB3BB2670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A5E1E5-8CBF-4C39-9504-9E4C3C79B38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FBFBE8-949E-48FA-9CD8-13BE5ECB616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DA9A3E-06FD-4027-8C1F-28DFB6E1F41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17B7A6-91EC-4C3E-A6F9-2FD9F987130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72611C-7A7E-4A6E-B03B-A3096665EC3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0716CC-1294-45A0-BA89-933C05CB46B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63495C-B488-40D9-9841-AB7D54025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9C85-D144-4307-88A8-A6E975A1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D50D26-C1A0-4B68-BF30-BAD3C1F2151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E196DF-3706-4516-9149-25E6AC33C88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8E7817-B591-4D2A-8C43-B147BD0BAF9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C47EE2-799C-4CA8-B5A8-8655FBF277C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D51D94-72E3-484B-8980-DED81DD247A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93833-F64A-42B7-A1B8-A19CCCB89E1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8F3974-39CC-4F5B-8C16-D81BB02769C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E32A1B-F285-401A-9989-32AD344A10C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037650-EEB1-41EA-B4F3-6F74A562662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93AE2A-6610-4E7C-A784-16DFC235F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553-5F3B-4E29-82A7-DFFAF83A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E81F50-7735-45E5-A240-467B4F72EF7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B912B-2B89-45E1-981A-D5E2732F1A2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FA107-68AE-48C8-82AF-0CB69B1B9AC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37E5B-1DDE-42DD-983D-84BBEBDD383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494BD-2300-43A1-ABAD-44AE1BC6CDE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CCB33-B398-4292-B6E9-401DE5BCB85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D08D4-9EC8-4F9D-B30C-475B8696642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A54D3-4782-49CC-9371-64EAB24CCC0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D11CB-0C90-4F51-A278-7B113CEC369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EAE3A-FEDA-48E3-9740-142BA6CBE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6532B-54B6-403E-9912-F1F0785DF3F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E422C-EE63-43E7-8775-E828A911197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2DD34-9B9A-42CD-8F62-2A4DE033F76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C0A25F-133B-4E90-B5FA-FCBDB723188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176D8A-9DF1-4CA1-B332-D21507BC1D4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FD2143-2F52-4B09-AC2C-BB3788304FB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EBE116-4673-400D-BF6B-98C8DA1B841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C0FD91-3A81-449C-9BA4-5BA394E2017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1713E5-0348-4CB9-AA3A-E97F1675C88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16D353-D202-4FED-898D-F364F726B8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B1809E-0C93-4615-9AE1-00A1ACD2F9A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8D777B-8188-4320-81D7-8988386FE67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67B7D2-ADF9-4823-8743-9D5C2DED569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E2F21A-53CE-4CA2-BEEF-6E724B253E7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0281CD-A4FE-40BF-B86A-6BF6BCE1679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D84156-D400-4D0C-BC28-D0EE10A5BB7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E39FF-0CBB-4B56-AC71-C16D054F243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17CBDA-BE5B-4A18-B75E-E4BA96DBB0C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9FB09-BD8B-4DCA-979B-1ECE22D02B9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B094A3-CAC3-4DEC-9B54-F4716610E2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AAA282-19BF-4401-BA3C-76B5604F522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AAD19B-0F65-43DC-BF81-E0C2CAB3AA9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4DCFF-5984-47BB-ABFD-1F77782AF6B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8627A3-E684-4DE5-8257-41BC9F68A15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9A4008-DC40-430F-B346-1FD03D8608E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2E678-6309-485F-9D79-9C3D78FDDC3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90B08-7AC9-43CE-8FA0-8BE3689A88A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09555-7C4E-4A86-B9C9-1A7A0DBA303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B5132-C2DD-427E-86AE-CE4B904A0CE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0B101-3E23-4806-90C1-21623C456F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8D619-0467-497C-9EA6-B3BD4074421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793EB-628C-48B6-A3E0-5878A6218CD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4FF6C-1B32-462B-87F1-93E4702E754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3E4DF-57E2-4B0E-AFDC-954DC7C9405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F3941-9626-4764-A0AF-919EB610658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A4994-9599-4ED0-A85A-79F524361AB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9F081-E8EF-4D1D-B6A9-F5CC9F562E3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519E1-E8CC-40B2-B6F2-D6499117EE9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B02CC-548C-4A48-B63A-5DEFDD23BF7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0719AC-A8F8-4218-8923-6DECCD1DB3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D17C84-3DDD-4650-B39F-8162C5BAF1D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4B8BC8-20AB-4339-8875-E25376031F0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F0E7BE-9A8C-4F28-A612-8FA233E4EF2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1F73EB-B4F6-47DC-A6B8-FE97007CD23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BB73CB-AA19-4D41-82E7-B2CA8BBC034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143312-CC38-483E-80B7-E8B666798CC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FB5F28-73BC-4D53-B772-E78743EDED4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007EC2-CBB4-440F-B024-88A074C55DB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E32F84-14C2-4563-A3DF-4836CE2F6F7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2D401E-2389-4FCA-AF61-1F639D2D53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AC2AF3-F166-4057-8F41-E01A109D543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9D7D2-D534-4066-A9F6-59C44DFBB70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88DBA4-7042-497F-B656-F9F560AB19D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B70CA-A2B5-4C8E-96B8-9C2336E7221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1BFFAC-426D-4AA0-B9BF-4550379C93F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4BC5A6-323C-4763-A9BA-246822C7DC3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73FAAD-32E4-427D-AC84-48A53590EFF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14CB27-AF79-4DB6-9703-7BEBF0BC74B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283E91-0771-4EB4-AEDB-0936B7AE920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2FFFE4-F8F5-4DBD-B761-C119AFE489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AD0784-E05E-4835-BD71-56305606843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DC33CF-50FC-4F9E-BB76-4054F2B1220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DED37F-4C95-4D12-BEEE-FC14C95F13E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56F-21C4-4525-866B-C4653612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411F1-76B7-410F-B349-4686AA4B06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1856D-6E05-4BE4-9C99-A902C64B2D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0E534-F8FD-4D73-8086-3DC8985E98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B8A4A-0774-4071-B888-B24111E781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D9973-8718-414A-A59C-26B7D2D3C6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C053-E695-4974-A6B8-7A6FB99C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53B40-2098-4B32-ADB1-8E78B9C779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D09DB-90BC-4675-AF96-31F60208CA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E98FE-2365-401E-91D8-084438C71B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8921F-EE9A-4840-9C74-3FEA8B98DF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677FA-2B5F-44D0-87C5-6ACE1247FD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8C21D-81B8-4228-889B-4A77FC683E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0695E-5AF3-4B89-8098-423AD330C1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A24C7-45EB-4EB1-AAA5-EDAE45C679B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CCCE0-397F-4422-8321-D69F30E87F5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899F0-617C-4B6B-82AC-2403928FA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4D56-1E74-4D11-AA5B-033B97C6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7E758-C330-44B8-A957-A9346F307A0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CD2B5-9DF4-49D6-A1EE-F446DA5E93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F20EB-79B6-4BD7-B1EB-5719CC2DA5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9EDEE-5186-46E9-8F9D-7C4536B407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716B4-F7BC-4FC7-8351-8CFDEA451B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6F10E-FC76-4986-9E2F-8255312D15E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03750-750D-4639-8B27-AAD3EA6ADE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86E4F-70AA-4D05-A21A-D49FE9DE3D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AE37C-D751-4CE6-9E88-F277BFF6B8A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0F4C-C54E-4D25-933B-3A95E7C6D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A00-C7E9-4918-9680-FB450470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F775-57C7-42F1-AB19-522320F7888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155D-F02F-415B-9FD6-CC1B430C699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7D91-9F2F-4FE6-9F55-61494A6FDD7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38D8-F302-4189-A1C0-3D794E07F64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2620-D13C-492B-9F1B-9D99B3DBD61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6899-6A81-433B-BC0C-014EDEEEB24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9BAE-E349-4DDA-ADF8-4C72DF6FC23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6472-D344-4658-94EE-0B62DC4E818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A14A-C1D9-410A-B674-080CEDEDCDF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5B54-BC0D-44C5-A760-6C972A52B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5E9-16CF-45B2-9EFF-1193BD53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C046-A10A-4ABB-A4E7-5C3B169E630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06DDBF-EA11-4541-AFF9-25884FEA27E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996A13-529D-48CC-87E9-C8355F560D4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AA2B6C-9313-4B6C-BFF7-A7D75C61BA0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3DB6E4-7D68-43BC-8EBD-F5F1C87FAF5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407C25-AD19-4AB9-A3D2-DCF547FDF58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1F4DD6-DC00-4775-BAEB-2DDC7940641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0412E8-7527-4FD0-B68A-456D64B4896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4A5F77-79C7-4A44-A80F-63880715183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A8DBE2-23EB-42DD-9125-860D442AC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971-0D53-4088-BDC1-C78A278B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E08890-91C3-4064-A42F-F066723715E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71B82B-FAC2-4D77-9DA1-4035C2AE409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65C81C-1E7F-4F96-B222-19B128A8762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6A551-8752-46E6-A783-2D88640F550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3FD57-211A-4158-8738-BC20BD59ACD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6D53D-8E65-4FEB-AE36-545A505C773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42CD7-5547-4EF4-ADFE-55C5505F2A7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7D50A-B306-4B0C-AA87-9D92D0576AC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F96B9-02B9-4160-B64E-D9215141CD7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79DCB-976F-48D7-B554-DCAA102D3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9F50-0875-4F11-8F26-1FBDE726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B8EAA-C160-4080-B983-DF6DD027A91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6C060-FFB2-4F4A-A8E3-4149482F60C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D0214-A82B-418D-8F41-196386AE591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054B7-D4B7-45D3-9FD0-B4E80CD9D61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FB5DA-2975-4F90-9265-3C2F57EE371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4A362-F12E-4A33-8DC9-543B097065C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36B89-A6C4-4749-A1D5-25AE7882D05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0DCB2-F9D6-4BAA-B16E-1D97FF3EBA4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4BF47-7CF1-4FFB-B3F9-496A7DE8111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3563F-F246-4F11-95FB-77BA43CCF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A9A2-228D-4120-BC64-5D9D4355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B6D87-91CA-4894-A8E9-E60463CDC91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20FCA-EEDE-47ED-B7B8-1DF59F132FC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1D62D-07A9-44B3-B027-CBB68709EC4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04EA6-3750-4C66-BD89-48D71E18693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788E8-B5AD-4C2E-BFF5-2A203AA55F7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2B23A-59E1-4982-92B5-9EA28356E68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7903C-79BD-4C9B-85E8-1216DA4D464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85B845-E7E5-4F59-AC41-DA37FE5293F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B00AFF-743F-4D0C-8170-8E7722B6013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0F2AAB-C0D1-4EFD-93EE-B7F84F33E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9D32498-8023-47B1-89FD-A1F2008B500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E6B32F1-4B57-416C-A2F6-5405791EEB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A338529-BC9A-46D1-8D59-4D05118B281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A5CE194-677C-4BAB-81D0-07BEBE12320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D46ADB0-5C34-4A04-BE13-FD544E27454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8B6D8F3-50D7-4983-9286-4350A909A0B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96AC6CF-F7DA-4680-8EA8-6B66049A234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F4945C7-9E1B-4311-8BFF-744F06E154D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DB0AEA0-D491-427A-A5A0-CBE35CF7021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8068116-1914-46D3-BFD6-9CA617C24A9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1189DE7-92B5-4907-A9CB-FB67F573CA9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2E58908-A138-4448-9123-BADE37B1B14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4CE9DBD-F938-458E-B952-AE20526FDBC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6E2727-E3DE-456E-9941-185111D8151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5C4AB5E-6785-42DA-A49D-C3182441396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C4F5CE4-EAB1-41F7-8A06-DC65A0310F6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s://www.nordplusonline.org/News2/NEWS-AND-ARCHIVE/Results-of-the-Nordplus-2020-application-round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News2/CALLS/Application-for-Nordplus-2020-preparatory-visits-is-open" TargetMode="External"/><Relationship Id="rId2" Type="http://schemas.openxmlformats.org/officeDocument/2006/relationships/hyperlink" Target="https://www.nordplusonline.org/News2/CALLS/Application-for-Nordplus-2020-preparatory-visits-is-open" TargetMode="External"/><Relationship Id="rId3" Type="http://schemas.openxmlformats.org/officeDocument/2006/relationships/hyperlink" Target="https://www.nordplusonline.org/News2/CALLS/Application-for-Nordplus-2020-preparatory-visits-is-open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espresso.siu.no/espresso/login?0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nordplusonline.org/" TargetMode="External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" TargetMode="External"/><Relationship Id="rId2" Type="http://schemas.openxmlformats.org/officeDocument/2006/relationships/hyperlink" Target="https://www.nordplusonline.org/" TargetMode="External"/><Relationship Id="rId3" Type="http://schemas.openxmlformats.org/officeDocument/2006/relationships/hyperlink" Target="https://www.nordplusonline.org/How-to-apply/HANDBOOK#pdf_frame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gramm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10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3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5" descr=""/>
          <p:cNvPicPr/>
          <p:nvPr/>
        </p:nvPicPr>
        <p:blipFill>
          <a:blip r:embed="rId2"/>
          <a:stretch/>
        </p:blipFill>
        <p:spPr>
          <a:xfrm>
            <a:off x="3137040" y="3144960"/>
            <a:ext cx="3598560" cy="338436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 txBox="1"/>
          <p:nvPr/>
        </p:nvSpPr>
        <p:spPr>
          <a:xfrm>
            <a:off x="483840" y="2182320"/>
            <a:ext cx="8202600" cy="1117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3"/>
              </a:rPr>
              <a:t>https://www.nordplusonline.org/News2/NEWS-AND-ARCHIVE/Results-of-the-Nordplus-2020-application-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0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www.nordplusonline.org/News2/CALLS/Application-for-Nordplus-2020-preparatory-visits-is-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" descr=""/>
          <p:cNvPicPr/>
          <p:nvPr/>
        </p:nvPicPr>
        <p:blipFill>
          <a:blip r:embed="rId5"/>
          <a:stretch/>
        </p:blipFill>
        <p:spPr>
          <a:xfrm>
            <a:off x="2417760" y="2487600"/>
            <a:ext cx="49608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iesniegšanas termiņš – </a:t>
            </a:r>
            <a:r>
              <a:rPr b="1" lang="lv-LV" sz="2000" spc="-1" strike="noStrike">
                <a:solidFill>
                  <a:srgbClr val="009a00"/>
                </a:solidFill>
                <a:latin typeface="Calibri"/>
                <a:ea typeface="Verdana"/>
              </a:rPr>
              <a:t>2020.gada 1.oktobr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siu.no/espresso/login?0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3" descr=""/>
          <p:cNvPicPr/>
          <p:nvPr/>
        </p:nvPicPr>
        <p:blipFill>
          <a:blip r:embed="rId2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F9B1E57-1F27-46A4-900A-FA85F797069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Picture 6" descr=""/>
          <p:cNvPicPr/>
          <p:nvPr/>
        </p:nvPicPr>
        <p:blipFill>
          <a:blip r:embed="rId1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rdplus programmas valstī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ieskaitot ceļā pavadīto lai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 no katras organizācijas/vals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m Nordplus sedz 100% ceļa izdevumus un uzturēšanās izdevumus saskaņā ar likmē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 2020.gada 1.novembra līdz 2021. gada 1.februāri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(ja plānots iesniegt projektu 2021. gada projektu konkursam)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vai līdz 2020./2021.mācību gada beigā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2203200" y="1506600"/>
            <a:ext cx="648324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eļa izdevumi savā un partnera valstī, ja pārsniedz 500 km – 150 eur 1 dalībniek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!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ā projekta </a:t>
            </a:r>
            <a:r>
              <a:rPr b="1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993680" y="1348920"/>
            <a:ext cx="6692760" cy="457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tīkliem un projektiem līdz 75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no plānoto aktivitāšu izmaks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Ziemeļu Ministru padomes programma Ziemeļvalstu un Baltijas valstu sadarbībai izglītības jo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5 apakšprogramm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Jaunieš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ākās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Pieaugušo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Horizontālā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Ziemeļvalstu valod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ir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visi un jebkurš pieaugušo izglītībā iesaistītais (formālā, neformālā, vispārējā, profesionālā izglītība)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!!!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tematisko tīklu 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plānošanas projekti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si ieinteresētie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    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– dāņu, somu, norvēģu, zviedru, sāmu, islandiešu, fēriešu, grenlandiešu valoda, zīmju valo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konferences, seminār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ublikācija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grammas dalībnieki</a:t>
            </a:r>
            <a:br>
              <a:rPr sz="29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9000"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ama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vidusskol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zinātniskās institū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nevalstiskās organizā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ivātuzņēmum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+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1 sadarbības partner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! Programmas finansējums -  līdz 75%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no aktivitāšu izmaks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ngļu valod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782720" y="861840"/>
            <a:ext cx="714384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t.sk. partneru datu bāze – </a:t>
            </a:r>
            <a:r>
              <a:rPr b="0" lang="lv-LV" sz="17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www.nordplusonline.or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Nordplus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rokasgrāmata (2020) </a:t>
            </a:r>
            <a:r>
              <a:rPr b="0" lang="lv-LV" sz="1400" spc="-1" strike="noStrike">
                <a:solidFill>
                  <a:srgbClr val="009a00"/>
                </a:solidFill>
                <a:latin typeface="Calibri"/>
                <a:ea typeface="Verdana"/>
              </a:rPr>
              <a:t>https://www.nordplusonline.org/How-to-apply/HANDBOOK#pdf_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</a:t>
            </a: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espresso.siu.no/espres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www.viaa.gov.lv/lat/starpt_fin_intrumenti/nordplus/par_nordplus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How-to-apply/FIND-A-PARTN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Twinning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www.etwinning.net/en/pub/index.htm 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choolgateway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login.schoolgateway.com/0/auth/log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siu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2280960" y="1417320"/>
            <a:ext cx="640548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Sagatavošanas vizīte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828440" y="1243080"/>
            <a:ext cx="6977160" cy="477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gada Nordplus projektu konkursu plānots izsludināt 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0.gada 1.novembrī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(projektu iesniegšanas termiņš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2021.gada 1.februāri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- 2022. gada konkursos paredzams uzsvars uz </a:t>
            </a:r>
            <a:r>
              <a:rPr b="1" lang="lv-LV" sz="26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Nordplus oficiālā mājas lapas adres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www.nordplusonline.org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/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2021. gada Nordplus rokasgrāmata 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tiks publicēta Nordplus oficiālajā mājas lapā pēc  2021. gada konkursa izsludināšana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2020.gada Nordplus rokasgrāmata (angļu valodā) pieejama: 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https://www.nordplusonline.org/How-to-apply/HANDBOOK#pdf_fr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7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8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294840" y="6046920"/>
            <a:ext cx="216396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5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7AEC0F2-284A-4269-98C0-92B44FC80DC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gada projektu konkursa rezultāti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visās dalībvalstī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96920" y="1981080"/>
          <a:ext cx="8727840" cy="3600720"/>
        </p:xfrm>
        <a:graphic>
          <a:graphicData uri="http://schemas.openxmlformats.org/drawingml/2006/table">
            <a:tbl>
              <a:tblPr/>
              <a:tblGrid>
                <a:gridCol w="1476360"/>
                <a:gridCol w="977760"/>
                <a:gridCol w="1027080"/>
                <a:gridCol w="1244880"/>
                <a:gridCol w="1245960"/>
                <a:gridCol w="1557360"/>
                <a:gridCol w="1198440"/>
              </a:tblGrid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u pieteikum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tbalstītie no iesniegtajiem,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prasītais finansējums  (milj. eiro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ansējums (milj. eir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., %  no pieprasīt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126 1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996 27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4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 594 20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 281 77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5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 761 8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233 4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 596 50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77 71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453 36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5 6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 532 07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 224 8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5" name=""/>
          <p:cNvGraphicFramePr/>
          <p:nvPr/>
        </p:nvGraphicFramePr>
        <p:xfrm>
          <a:off x="1090440" y="1658880"/>
          <a:ext cx="7755120" cy="3989520"/>
        </p:xfrm>
        <a:graphic>
          <a:graphicData uri="http://schemas.openxmlformats.org/drawingml/2006/table">
            <a:tbl>
              <a:tblPr/>
              <a:tblGrid>
                <a:gridCol w="1378080"/>
                <a:gridCol w="1343160"/>
                <a:gridCol w="1771560"/>
                <a:gridCol w="1484280"/>
                <a:gridCol w="177804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1 1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4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5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33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1 5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4 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4 (6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142 7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2019.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8" name=""/>
          <p:cNvGraphicFramePr/>
          <p:nvPr/>
        </p:nvGraphicFramePr>
        <p:xfrm>
          <a:off x="493560" y="1943280"/>
          <a:ext cx="8352000" cy="3895560"/>
        </p:xfrm>
        <a:graphic>
          <a:graphicData uri="http://schemas.openxmlformats.org/drawingml/2006/table">
            <a:tbl>
              <a:tblPr/>
              <a:tblGrid>
                <a:gridCol w="1316160"/>
                <a:gridCol w="1614600"/>
                <a:gridCol w="1908000"/>
                <a:gridCol w="1596960"/>
                <a:gridCol w="1916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2  (7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4 54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 (6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0 918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  (3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 43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 (6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 27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   (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 (5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9 16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0-09-08T07:45:11Z</dcterms:modified>
  <cp:revision>184</cp:revision>
  <dc:subject/>
  <dc:title>PowerPoint Presentation</dc:title>
</cp:coreProperties>
</file>